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1741-5EE5-4919-9C21-04ED1738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2A4-0457-4875-A0F2-4419D1CB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BC06-3101-4E34-9312-96015EA0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4908-EA77-4BA1-9446-B4DEADE9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DAE-982F-416D-A055-40CFCDC4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4DDD-B448-46D6-AFFC-512AA053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495-9238-4960-830B-9A8EBD31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A677-A8DE-4494-8D77-875E64D9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2008-7022-4D28-B4D0-F56D850A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016-FE5C-4D92-8687-A2E004C8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33D-5DDB-4201-85A5-DC4C877F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7A7E-D357-407E-9E31-BA74BA8C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30DF-47D5-40F8-91B9-94EC81A24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6020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6543200">
            <a:off x="2439360" y="19796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59f1"/>
                </a:solidFill>
                <a:latin typeface="Arial Black"/>
              </a:rPr>
              <a:t>BEAU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2031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625600">
            <a:off x="6857640" y="2133720"/>
            <a:ext cx="1623960" cy="1623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17532000">
            <a:off x="1860480" y="118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352680" y="0"/>
            <a:ext cx="1706760" cy="2209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2312400">
            <a:off x="5028840" y="3123720"/>
            <a:ext cx="2136600" cy="2135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5400000">
            <a:off x="7770960" y="388476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59f1"/>
                </a:solidFill>
                <a:latin typeface="Arial"/>
              </a:rPr>
              <a:t>Success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 rot="2477400">
            <a:off x="456840" y="4800240"/>
            <a:ext cx="1828800" cy="1670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133720" y="2209680"/>
            <a:ext cx="1779480" cy="2667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6248520" y="5000760"/>
            <a:ext cx="2633400" cy="1857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952880" y="1676520"/>
            <a:ext cx="1393920" cy="1468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 rot="18243000">
            <a:off x="421920" y="2777760"/>
            <a:ext cx="128880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892160" cy="2838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29000" y="5181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2895480" y="5029200"/>
            <a:ext cx="243864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23:39:07Z</dcterms:created>
  <dc:creator>Guest</dc:creator>
  <dc:description/>
  <dc:language>en-US</dc:language>
  <cp:lastModifiedBy>Guest</cp:lastModifiedBy>
  <dcterms:modified xsi:type="dcterms:W3CDTF">2009-12-09T00:48:07Z</dcterms:modified>
  <cp:revision>2</cp:revision>
  <dc:subject/>
  <dc:title>Slide 1</dc:title>
</cp:coreProperties>
</file>